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769C-5630-46D0-A9BA-A7671BCF1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174D-4E46-47E9-A1E5-E9BC4E6C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1DB4-3144-4960-ABCB-23D18E9BA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D768-B6B0-4673-BE2F-8DD9B3C89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DBD6-F38C-4364-8787-F17211C1E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79E2-19A6-4B25-BC9A-803BEFFA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2F27B-6F3B-4E77-B149-86BC3D97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A6E4-A9E8-4B59-85FB-90824535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7FA1-E17B-4545-B7E8-2DD213B3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AF27-AEB7-4E06-ACC6-A4FC0B1B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677C-A856-4F38-AF4E-4F57ED95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A437-1FD6-4FDB-8240-513E5707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2CB4E-4145-401F-8B29-FA1C1122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BF9BF-B52E-4409-95E2-DE792131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A46A9-4474-4653-8674-DD3D1D87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458E-49AF-42B4-A0E7-D349D64B3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6854-C966-4BE3-AAAF-639BECB29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A6AC-0F4F-4059-9D64-49AE5AF2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7F9F-2407-457C-AAC3-D146CA38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D0B9-EA4E-429A-B764-8F579C19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9BEF-B98F-4F25-B971-C68E4172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F233-F916-4E28-8CCC-F2DE7B5D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9972-8B39-4C20-9771-D3CE199A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D12D-EA30-4535-8646-3447F5F2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40C6-66CC-4E84-921D-60ACD7D00DAE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8DA0-265E-4B27-924F-E1F2587D9123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eilnacht.com/cdrom.htm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8066160" y="0"/>
            <a:ext cx="1077840" cy="18003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ccecff"/>
                </a:solidFill>
                <a:uFillTx/>
                <a:latin typeface="Arial"/>
              </a:rPr>
              <a:t>Formaldehyd</a:t>
            </a: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iederike Hillerman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Wie kann ich es nachweise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er Nachweis erfolgt mit Schiffs Reagen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Ist ein Aldehyd enthalten, färbt sich die farblose Lösung violet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317080" y="0"/>
            <a:ext cx="826920" cy="15573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Bild vergrößern!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00000" y="3357720"/>
            <a:ext cx="6985080" cy="3500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Inhalt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as ist ein Formaldehy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as ist ein Aldehy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elche Eigenschaften hat 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ie ist seine Entstehu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ie ist seine Verwendu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elche Wirkung hat Formaldehy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ie kann es hergestellt werd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8238960" y="0"/>
            <a:ext cx="905040" cy="1657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Formaldehy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igentlich Metha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Chemische Formel: HCHO oder CH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059280" y="3284640"/>
            <a:ext cx="2304720" cy="19494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8238960" y="0"/>
            <a:ext cx="905040" cy="1657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ccecff"/>
                </a:solidFill>
                <a:uFillTx/>
                <a:latin typeface="Arial"/>
              </a:rPr>
              <a:t>Was ist ein Aldehyd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ch den Entzug von zwei Wasserstoffat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s einem primären Alkoh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i der Oxidation von Methanol mit heißem Kupferoxid entsteht zunäch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ine instabile Zwischenverbindung, die dann Wasser abspalt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ldehyd entste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8238960" y="0"/>
            <a:ext cx="905040" cy="1657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Welche Eigenschaften hat e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rb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chend riech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sförmi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ennb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melzpunkt: -92°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edepunkt: -21°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. Molekülmasse: 30,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üchtiges G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chte: 0,82g/cm³ (bei -20°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388360" y="0"/>
            <a:ext cx="755640" cy="1657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Wie ist seine Entstehung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bbauprodukt in der Nat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rodukt einer unvollständigen Verbrenn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ntsteht im Stoffwechselprozes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uch in Autoabga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im Tabakrau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In den Fotooxidantien des Sommersmo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8238960" y="0"/>
            <a:ext cx="905040" cy="1657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Wie ist seine Verwendung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elfältig eingesetzte Chemikali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leimte Produkte aus Holzwerkstof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ämmstoffe  und Ausschäummaterial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strichstof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as- und Steinwol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smeti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üngemitt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kam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inigungs-, Pflege. Und Desinfektionsmitt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8238960" y="0"/>
            <a:ext cx="905040" cy="1657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Arial"/>
              </a:rPr>
              <a:t>Welche Wirkung hat Formaldehyd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izt bereits in geringen Mengen: Augen,     Nase und Atemwe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 verdacht krebserregend zu se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nn zu: Schlaflosigkeit, Hautreizungen, Kopfschmerzen, Allergien, Übelkeit, Asthma, Bronchitis füh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hohen Mengen kann es Lebensgefahr füh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8532720" y="0"/>
            <a:ext cx="611280" cy="1270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Arial"/>
              </a:rPr>
              <a:t>Wie kann es hergestellt werden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ann mit oxidiertem Kupfer hergestellt wer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aucht man ein oxidiertes Kupferdrahtnetz in ein Reagenzglas mit Methanol wird das Kupferoxid des Drahtnetzes wieder zu Kupfer reduziert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ährend das abgegeben Sauerstoffatom zuerst eine instabile Zwischenverbindung bild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unter Wasserabspaltung entsteht Metha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8317080" y="0"/>
            <a:ext cx="826920" cy="16574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744560" y="32439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44560" y="32439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8360" y="5589720"/>
            <a:ext cx="898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3T06:14:51Z</dcterms:created>
  <dc:creator>P2800</dc:creator>
  <dc:description/>
  <dc:language>en-US</dc:language>
  <cp:lastModifiedBy>a</cp:lastModifiedBy>
  <dcterms:modified xsi:type="dcterms:W3CDTF">2006-03-15T14:18:21Z</dcterms:modified>
  <cp:revision>7</cp:revision>
  <dc:subject/>
  <dc:title>Formaldehyd</dc:title>
</cp:coreProperties>
</file>